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879-42FA-4366-B4F2-05E782142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199-43FF-4E2D-A0A6-6E014BE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2F8-B293-498A-8D8A-E9307BC3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A20-01D5-47C3-8572-556F43FD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A7B-AACF-4942-8F21-5EDA2B8F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EA7-C839-4063-BE0F-05D0410A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BE2-7A1A-4B9E-BF6A-7437608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E98-AEB2-4E41-B387-014A9AA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ECA-395F-445A-ADB3-7E9CFD3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ECA-F940-4CFA-BF4C-DE12C4C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E3B-0AC6-470C-8A23-E6BE222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E3F-0EC8-449C-976E-9196AD82C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2B37-8B0E-4B81-9BFA-786D9B332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9CB03-C252-4CD4-8E1E-B79C035D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7858-2BAD-4A66-8472-B5D022B7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5D5FC-F729-4CD0-A739-4FCDD488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83C1A-F5A4-4AFC-AD09-19875234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75175-83ED-4159-A072-0E318693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49FEC-D98B-4F4F-BD17-E88D6A2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34C29-588C-4BA7-9D0D-3E1A7358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7B97-D0C6-4DA5-B3BF-6156CB90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4C9B6-F115-417C-94CA-2DA3BD5A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5D5CD-5575-45E9-8021-350FB23D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208D-DE10-4682-9DB8-3B5336E1B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3DD95F-2F45-4F08-904D-60D75DBCE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179E7-6708-431A-9580-A4199C77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53E52-5AD2-407A-A1A0-1CA9ABE6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55F79-114C-4B82-A536-4CBC11AF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A09D2-E317-41C2-AFFE-DAD79E87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5A8F8-EF64-4F9F-A314-326E1653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26DD13-5AE6-47C8-9067-AA8C65F5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55FB8-A0A6-4412-A1D7-E6BD1398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6859C-374A-41FA-8424-ECEE16AA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000A2-B81D-4E15-91A0-A3E24D09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E54D0-AAF0-4BCA-8EAB-D1A1E00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4260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06160" y="194940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7904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4260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06160" y="4041720"/>
            <a:ext cx="24411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5905C-D833-4485-A907-E04B5DB03F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1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160" y="404172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160" y="1949400"/>
            <a:ext cx="369972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9040" y="4041720"/>
            <a:ext cx="7581960" cy="19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379680"/>
            <a:ext cx="7542360" cy="2602080"/>
            <a:chOff x="0" y="3379680"/>
            <a:chExt cx="7542360" cy="2602080"/>
          </a:xfrm>
        </p:grpSpPr>
        <p:grpSp>
          <p:nvGrpSpPr>
            <p:cNvPr id="1" name=""/>
            <p:cNvGrpSpPr/>
            <p:nvPr/>
          </p:nvGrpSpPr>
          <p:grpSpPr>
            <a:xfrm>
              <a:off x="0" y="3379680"/>
              <a:ext cx="7542360" cy="2602080"/>
              <a:chOff x="0" y="3379680"/>
              <a:chExt cx="7542360" cy="26020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392640"/>
                <a:ext cx="7542360" cy="2589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379680"/>
                <a:ext cx="7542360" cy="0"/>
              </a:xfrm>
              <a:prstGeom prst="line">
                <a:avLst/>
              </a:prstGeom>
              <a:ln w="28440">
                <a:solidFill>
                  <a:srgbClr val="ff7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6818400" y="3621240"/>
              <a:ext cx="392040" cy="392040"/>
            </a:xfrm>
            <a:prstGeom prst="ellips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3912840"/>
            <a:ext cx="58658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112320" y="5715000"/>
            <a:ext cx="2055960" cy="363600"/>
          </a:xfrm>
          <a:prstGeom prst="rect">
            <a:avLst/>
          </a:prstGeom>
          <a:noFill/>
          <a:ln w="0">
            <a:noFill/>
          </a:ln>
        </p:spPr>
        <p:txBody>
          <a:bodyPr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CA" sz="1400" spc="-1" strike="noStrike">
                <a:solidFill>
                  <a:srgbClr val="808080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CA" sz="1400" spc="-1" strike="noStrike">
                <a:solidFill>
                  <a:srgbClr val="808080"/>
                </a:solidFill>
                <a:latin typeface="Corbel"/>
                <a:ea typeface="Lucida Sans Unicode"/>
              </a:rPr>
              <a:t>12-11-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357120" y="450324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228600"/>
            <a:ext cx="4249800" cy="6384960"/>
            <a:chOff x="228600" y="228600"/>
            <a:chExt cx="4249800" cy="6384960"/>
          </a:xfrm>
        </p:grpSpPr>
        <p:sp>
          <p:nvSpPr>
            <p:cNvPr id="46" name=""/>
            <p:cNvSpPr/>
            <p:nvPr/>
          </p:nvSpPr>
          <p:spPr>
            <a:xfrm>
              <a:off x="228600" y="228600"/>
              <a:ext cx="4249800" cy="6384960"/>
            </a:xfrm>
            <a:custGeom>
              <a:avLst/>
              <a:gdLst>
                <a:gd name="textAreaLeft" fmla="*/ 0 w 4249800"/>
                <a:gd name="textAreaRight" fmla="*/ 4250160 w 4249800"/>
                <a:gd name="textAreaTop" fmla="*/ 0 h 6384960"/>
                <a:gd name="textAreaBottom" fmla="*/ 6384960 h 6384960"/>
              </a:gdLst>
              <a:ahLst/>
              <a:rect l="textAreaLeft" t="textAreaTop" r="textAreaRight" b="textAreaBottom"/>
              <a:pathLst>
                <a:path w="21600" h="32451">
                  <a:moveTo>
                    <a:pt x="0" y="0"/>
                  </a:moveTo>
                  <a:arcTo wR="0" hR="0" stAng="16200000" swAng="-5400000"/>
                  <a:lnTo>
                    <a:pt x="0" y="32451"/>
                  </a:lnTo>
                  <a:arcTo wR="0" hR="0" stAng="10800000" swAng="-5400000"/>
                  <a:lnTo>
                    <a:pt x="21600" y="3245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86200" y="433440"/>
              <a:ext cx="352440" cy="352440"/>
            </a:xfrm>
            <a:prstGeom prst="ellipse">
              <a:avLst/>
            </a:pr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920" y="2176200"/>
            <a:ext cx="36558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49" name=""/>
          <p:cNvSpPr/>
          <p:nvPr/>
        </p:nvSpPr>
        <p:spPr>
          <a:xfrm>
            <a:off x="4654440" y="228600"/>
            <a:ext cx="4251600" cy="6391440"/>
          </a:xfrm>
          <a:custGeom>
            <a:avLst/>
            <a:gdLst>
              <a:gd name="textAreaLeft" fmla="*/ 0 w 4251600"/>
              <a:gd name="textAreaRight" fmla="*/ 4251960 w 4251600"/>
              <a:gd name="textAreaTop" fmla="*/ 0 h 6391440"/>
              <a:gd name="textAreaBottom" fmla="*/ 6391800 h 6391440"/>
            </a:gdLst>
            <a:ahLst/>
            <a:rect l="textAreaLeft" t="textAreaTop" r="textAreaRight" b="textAreaBottom"/>
            <a:pathLst>
              <a:path w="21600" h="32470">
                <a:moveTo>
                  <a:pt x="0" y="0"/>
                </a:moveTo>
                <a:arcTo wR="0" hR="0" stAng="16200000" swAng="-5400000"/>
                <a:lnTo>
                  <a:pt x="0" y="32470"/>
                </a:lnTo>
                <a:arcTo wR="0" hR="0" stAng="10800000" swAng="-5400000"/>
                <a:lnTo>
                  <a:pt x="21600" y="3247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174576"/>
                </a:solidFill>
                <a:latin typeface="Corbel"/>
              </a:rPr>
              <a:t>Drag picture to placeholder or click icon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29920" y="3341520"/>
            <a:ext cx="365580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1000"/>
          </a:bodyPr>
          <a:p>
            <a:pPr marL="24336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243360" indent="-24336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758520" y="6300720"/>
            <a:ext cx="12970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12-1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6300720"/>
            <a:ext cx="23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301320" y="6300720"/>
            <a:ext cx="446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CF3E2D-D425-4003-9E97-17BFAF751C0B}" type="slidenum"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1708200"/>
            <a:ext cx="8686800" cy="49086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686800" cy="127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1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196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228600" y="62434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12-1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4304880" y="624816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764527-0456-44B2-8CD6-8D3C69F1DA54}" type="slidenum"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648320"/>
            <a:ext cx="8686800" cy="196344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15184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103154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6"/>
          </p:nvPr>
        </p:nvSpPr>
        <p:spPr>
          <a:xfrm>
            <a:off x="228600" y="62434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12-11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7"/>
          </p:nvPr>
        </p:nvSpPr>
        <p:spPr>
          <a:xfrm>
            <a:off x="4304880" y="6248160"/>
            <a:ext cx="5317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77731F-0DDA-4D65-AD1E-E0B34A798628}" type="slidenum">
              <a:rPr b="0" lang="en-CA" sz="1800" spc="-1" strike="noStrike">
                <a:solidFill>
                  <a:srgbClr val="103154"/>
                </a:solidFill>
                <a:latin typeface="Corbe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456840" y="5257440"/>
            <a:ext cx="81550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1000"/>
          </a:bodyPr>
          <a:p>
            <a:pPr marL="720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72000" indent="-72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8677440" cy="4267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174576"/>
                </a:solidFill>
                <a:latin typeface="Corbel"/>
              </a:rPr>
              <a:t>Drag picture to placeholder or click icon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ai-class.com/" TargetMode="External"/><Relationship Id="rId3" Type="http://schemas.openxmlformats.org/officeDocument/2006/relationships/hyperlink" Target="https://www.coursera.org/course/ml" TargetMode="External"/><Relationship Id="rId4" Type="http://schemas.openxmlformats.org/officeDocument/2006/relationships/hyperlink" Target="http://www.academicearth.org/courses/machine-learning" TargetMode="External"/><Relationship Id="rId5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913200"/>
            <a:ext cx="58672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Artificial Intelligence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982760"/>
            <a:ext cx="58672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174576"/>
                </a:solidFill>
                <a:latin typeface="Corbel"/>
              </a:rPr>
              <a:t>And Machine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earch and optimization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6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Many of the problems that AI face can in theory be solved by searching through many possible solu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logical proof can be seen as searching for a path that leads from premises to conclu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90s a different kind of search came to prominence, it was based on the mathematical theory of optim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Logic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8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Logic is most commonly used for knowledge representation and problem 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re are a few different forms of logic used in AI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ropositional logic, first-order logic, fuzzy logic, subjective log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Probabilistic methods for uncertain reasoning 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00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Many of the problems faced in AI research require an outside source to operate with incomplete or uncertain inform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me of the tools used to solve these problems use various methods from probability theory and econom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 key concept from the science of economics is "utility": a measure of how valuable something is to an intelligent agent, using this an agent can make choices and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assifiers and statistical learning methods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02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two simplest types of AI applications can be divided into Classifiers and controll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n example of this is: Classifier (“ if round then ball”) and the controller (“ if round then mov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One of the most widely used classifiers is neural network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Evaluation of AI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04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Optimal: it is not possible to preform be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trong super-human: preforms better than all hum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uper-human: preforms better than most hum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ub-human: preforms worse than most humans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46483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The Future of Robotics and Artificial Intellig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257800"/>
            <a:ext cx="8156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https://www.youtube.com/watch?v=AY4ajbu_G3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228600"/>
            <a:ext cx="8677440" cy="4267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174576"/>
                </a:solidFill>
                <a:latin typeface="Corbel"/>
              </a:rPr>
              <a:t>Drag picture to placeholder or click icon to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103154"/>
                </a:solidFill>
                <a:latin typeface="Corbel"/>
              </a:rPr>
              <a:t>Bibliograph</a:t>
            </a:r>
            <a:r>
              <a:rPr b="0" lang="en-US" sz="3200" spc="-1" strike="noStrike">
                <a:solidFill>
                  <a:srgbClr val="103154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210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s://www.ai-cla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www.coursera.org/course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academicearth.org/courses/machin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280" y="892080"/>
            <a:ext cx="36576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What is AI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0" t="-34175" r="0" b="-34175"/>
          <a:stretch/>
        </p:blipFill>
        <p:spPr>
          <a:xfrm>
            <a:off x="4892760" y="260280"/>
            <a:ext cx="4251240" cy="6391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90400" y="1944720"/>
            <a:ext cx="3657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Different kinds of AI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2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ybernetics and brain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ymbo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ub-Symbo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tatis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ybernetics and Brain Simulation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4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40’s and 50’s a number of researchers explored the connection between Neurology information theory and cybernetic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me of the researchers used electronic networks to exhibit rudimentary intellig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me examples of this are W. Grey Walters “turtles” and Johns Hopkins “Bea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ymbolic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6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50’s when access to digital computers became possible, AI research began to explore the possibility that human intelligence could be reduced to symbol repres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nce the 1960’s, symbolic approaches had achieved great success at simulating high-level thinking in small demonstration progra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ymbolic AI can be broken down into the following categories: Cognitive simulation, Logic-based and knowledge-based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ub-Symbolic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88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the 1980’s the progress in Symbolic AI had stalled and many believed that symbolic systems would never be able to imitate all the processes of human cog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Statistical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0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s type of research was started in the 199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t focused on advanced mathematical tools to solve specific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results of these tests were both measurable and variable and have been some of the biggest contributors to many success’s in AI research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Integrating the approaches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2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telligent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Multi- agent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Tools to achieve this </a:t>
            </a:r>
            <a:endParaRPr b="0" lang="en-US" sz="3800" spc="-1" strike="noStrike">
              <a:solidFill>
                <a:srgbClr val="103154"/>
              </a:solidFill>
              <a:latin typeface="Corbel"/>
            </a:endParaRPr>
          </a:p>
        </p:txBody>
      </p:sp>
      <p:sp>
        <p:nvSpPr>
          <p:cNvPr id="194" name=""/>
          <p:cNvSpPr/>
          <p:nvPr/>
        </p:nvSpPr>
        <p:spPr>
          <a:xfrm>
            <a:off x="77940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robabilistic methods for uncertain reas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001"/>
              </a:spcBef>
              <a:spcAft>
                <a:spcPts val="1426"/>
              </a:spcAft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assifiers and statistical learning method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2-11-25T01:02:48Z</dcterms:modified>
  <cp:revision>0</cp:revision>
  <dc:subject/>
  <dc:title/>
</cp:coreProperties>
</file>